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6.wmf" ContentType="image/x-wmf"/>
  <Override PartName="/ppt/media/image29.wmf" ContentType="image/x-wmf"/>
  <Override PartName="/ppt/media/image8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9.wmf" ContentType="image/x-wmf"/>
  <Override PartName="/ppt/media/image11.jpeg" ContentType="image/jpeg"/>
  <Override PartName="/ppt/media/image12.wmf" ContentType="image/x-wmf"/>
  <Override PartName="/ppt/media/image31.jpeg" ContentType="image/jpeg"/>
  <Override PartName="/ppt/media/image37.wmf" ContentType="image/x-wmf"/>
  <Override PartName="/ppt/media/image34.wmf" ContentType="image/x-wmf"/>
  <Override PartName="/ppt/media/image4.wmf" ContentType="image/x-wmf"/>
  <Override PartName="/ppt/media/image13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6.wmf" ContentType="image/x-wmf"/>
  <Override PartName="/ppt/media/image15.wmf" ContentType="image/x-wmf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592-685F-4EA9-9E39-5A5AF48C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1CC-C6A8-4545-B8BC-5D04459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52F-8277-45DF-A60A-8E400C20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6BA-00D7-48D0-8B39-B49629CD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0E0D-2578-47C4-92DB-4D9A16C6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AD06-4614-4596-B717-E491CD1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7B26-7D49-4409-B19A-4E40B09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E7C3-B030-4C77-9722-AD56CC5E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37E7-4539-4235-B61D-A14A8D99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07F6-D0B0-4C74-BF7C-1BBBC9E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BE02-125D-4ECC-B32F-1DC5AD5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967-97B4-440C-BBCC-B891868E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693-4041-4A81-84F4-02DFDE67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9D05-2F64-45E8-85BD-4787BB5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B08F-9C97-4B03-A7DB-44C2727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482D-BDAF-4AB7-BA36-BFDF5B64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388-44F5-4712-BB58-631EEB75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790-26B7-40DC-926B-051CF53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276-704F-4001-82E3-ED021DA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EB1-6F30-462C-A8EC-C9CE211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F70-C0B0-4B22-9F6F-94A37CDF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744-794E-439E-B840-047A9CC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986-CEAE-4626-9F31-B015DA0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8F7-7B90-440E-81AE-0C6B62DA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8CCB-EF91-4792-94B0-8A21691B6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1B5-F9B9-49A4-AE82-806B1AE0632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ctors an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-Dimensional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ly Adding Vector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drawing the vectors “tip-to-tai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ant is drawn from the origin of    to the end of the last v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the length of    and its 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scale factor to convert length to actual magn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2895480" y="3657600"/>
          <a:ext cx="3715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57600"/>
                    <a:ext cx="371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1981080" y="5072040"/>
          <a:ext cx="3715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072040"/>
                    <a:ext cx="371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4724280" y="2268360"/>
            <a:ext cx="44197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ly Adding Vector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have many vectors, just keep repeating the process until all are in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ant is still drawn from the origin of the first vector to the end of the last v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4727520" y="1981080"/>
            <a:ext cx="44164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Vector Add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s obe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utative Law of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 in which the vectors are added doesn’t affect the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Object 8"/>
          <p:cNvGraphicFramePr/>
          <p:nvPr/>
        </p:nvGraphicFramePr>
        <p:xfrm>
          <a:off x="1905120" y="4800600"/>
          <a:ext cx="26668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800600"/>
                    <a:ext cx="2666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5562720" y="1828800"/>
            <a:ext cx="3504960" cy="2552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4"/>
          <a:stretch/>
        </p:blipFill>
        <p:spPr>
          <a:xfrm>
            <a:off x="5423040" y="4114800"/>
            <a:ext cx="36446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Subt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case of vector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the negative of the subtracted v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 with standard vector addition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Object 9"/>
          <p:cNvGraphicFramePr/>
          <p:nvPr/>
        </p:nvGraphicFramePr>
        <p:xfrm>
          <a:off x="1600200" y="3886200"/>
          <a:ext cx="254484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86200"/>
                    <a:ext cx="25448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4724280" y="2070000"/>
            <a:ext cx="43434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ying or Dividing a Vector by a Scala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 of the multiplication or division is a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gnitude of the vector is multiplied or divided by the sca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scalar is positive, the direction of the result is the same as of the original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scalar is negative, the direction of the result is opposite that of the original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5: Holy Cow, its Friday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shot an arrow into the air. It landed I know not whe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shot it straight up with a velocity of 88km/hr. How long was it in the air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onents of a Ve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useful to us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tangular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are the projections of the vector along the x- and y-a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9528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onents of a Vector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x-component of a vector is the projection along the x-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y-component of a vector is the projection along the y-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n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565280" y="3048120"/>
          <a:ext cx="26622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3048120"/>
                    <a:ext cx="2662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1676520" y="4648320"/>
          <a:ext cx="245412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24541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819520" y="5181480"/>
          <a:ext cx="2409840" cy="79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181480"/>
                    <a:ext cx="240984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mponents of a Ve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vious equations are valid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nly if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θ is measured with respect to the x-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omponents can be positive or negative and will have the same units as the original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mponent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omponents are the legs of the right triangle whose hypotenuse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ay still have to find θ with respect to the positive x-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will be correct only if the angle lies in the first or fourth quadr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second or third quadrant, add 18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1981080" y="2895480"/>
          <a:ext cx="56865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56865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7924680" y="2362320"/>
          <a:ext cx="3715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2362320"/>
                    <a:ext cx="371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4 – G’day mat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truck pulls two tandem trailers at 100 km/hr. It takes 0.6s to pass on to a bridge 400m long, so that the entire rig is on the bridge. How long will all or part of the rig be on the bridge. (from inter-coastal bridge handbook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ng Vectors Algebraicall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e a coordinate system and sketch the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the x- and y-components of all the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all the x-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2362320" y="5257800"/>
          <a:ext cx="12952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257800"/>
                    <a:ext cx="12952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ng Vectors Algebraicall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all the y-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Pythagorean Theorem to find the magnitude of the resulta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inverse tangent function to find the direction of 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648320" y="2590920"/>
                <a:ext cx="1617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809880" y="4038480"/>
                <a:ext cx="2352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2286000" y="5662440"/>
                <a:ext cx="21574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in Two Dimen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+ or – signs is not always sufficient to fully describe motion in more than one 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s can be used to more fully describ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ll interested in displacement, velocity, and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ion of an object is described by its position vect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object is defined as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nge in its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Object 8"/>
          <p:cNvGraphicFramePr/>
          <p:nvPr/>
        </p:nvGraphicFramePr>
        <p:xfrm>
          <a:off x="1981080" y="3240000"/>
          <a:ext cx="25236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40000"/>
                    <a:ext cx="252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9"/>
          <p:cNvGraphicFramePr/>
          <p:nvPr/>
        </p:nvGraphicFramePr>
        <p:xfrm>
          <a:off x="1219320" y="5526000"/>
          <a:ext cx="1752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526000"/>
                    <a:ext cx="1752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11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48765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velocity is the ratio of the displacement to the time interval for the dis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velocity is the limit of the average velocity a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Δt approache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rection of the instantaneous velocity is along a line that is tangent to the path of the particle and in the direction of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766880" y="3187800"/>
          <a:ext cx="158580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6880" y="3187800"/>
                    <a:ext cx="15858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verage acceleration is defined as the rate at which the velocity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stantaneous acceleration is the limit of the average acceleration a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Δt approaches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1998720" y="3338640"/>
          <a:ext cx="181116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3338640"/>
                    <a:ext cx="18111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 Summary (SI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velocity and instantaneous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acceleration and instantaneous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ys an Object Might Accelera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velocity (the speed) can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rection of the velocity can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 though the magnitude is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the magnitude and the direction can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may move in both the x and y directions simultaneous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moves in two dimen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rm of two dimensional motion we will deal with is calle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ssumptions of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may ignore air fri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may ignore the rotation of the ea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se assumptions, an object in projectile motion will follow a parabolic 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i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long is entire rig…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rigs fit on bridge…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ules of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x- and y-directions of motion are completely independent of each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x-direction is uniform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y-direction is free f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velocity can be broken down into its x- and y-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1981080" y="5486400"/>
          <a:ext cx="449604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86400"/>
                    <a:ext cx="44960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1143000" y="1839960"/>
            <a:ext cx="73915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jectile Motion at Various Initial Ang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mentary values of the initial angle result in the same 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eights will be diffe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ximum range occurs at a projection angle of 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50166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Details About the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-direc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x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only operative equation in the x-direction since there is uniform velocity in that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981080" y="3124080"/>
                <a:ext cx="57247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Details About the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-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 fall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-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he positive direction as up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formly accelerated motion, so the motion equations all 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981080" y="2590920"/>
                <a:ext cx="2595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 of the Projecti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velocity of the projectile at any point of its motion is the vector sum of its x and y components at that poi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o be careful about the angle’s quad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905120" y="3809880"/>
          <a:ext cx="552600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09880"/>
                    <a:ext cx="55260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coordinate system and sketch the path of the projec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itial and final positions, velocities, and accel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l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initial velocity into x- and y-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e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horizontal and vertical motions independen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techniques for solving problems with constant velocity to analyze the horizontal motion of the projec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techniques for solving problems with constant acceleration to analyze the vertical motion of the projec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Variations of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bject may be fired horizon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velocity is all in the x-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general rules of projectile motion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2" name="Object 6"/>
          <p:cNvGraphicFramePr/>
          <p:nvPr/>
        </p:nvGraphicFramePr>
        <p:xfrm>
          <a:off x="5145120" y="2097000"/>
          <a:ext cx="380988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097000"/>
                    <a:ext cx="38098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-Symmetrical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general rules for projectile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ak the y-direction into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and 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metrical back to initial height and then the rest of the he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287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vs. Scalar Revie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hysical quantities encountered in this text will be either a scalar or a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quantity has both magnitude (size) and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ala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completely specified by only a magnitude (siz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d day 5 –start day 6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rrow leaves the bow at 25m/s at an angle to the horizontal of 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How long will it be in the air , how high will it rise and how far will it travel down rang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ve velocity is about relating the measurements of two different ob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may be useful to use a moving frame of reference instead of a stationary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ortant to specify the frame of reference, since the motion may be different in different frames of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no specific equations to learn to solve relative velocity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Velocity Not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attern of subscripts can be useful in solving relative velocity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 the following not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is an observer, stationary with respect to the 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and B are two moving c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Position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position of car A as measured by 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position of car B as measured by 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position of car A as measured by car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523880" y="2057400"/>
          <a:ext cx="60984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098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5"/>
          <p:cNvGraphicFramePr/>
          <p:nvPr/>
        </p:nvGraphicFramePr>
        <p:xfrm>
          <a:off x="1616040" y="4191120"/>
          <a:ext cx="57780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6040" y="4191120"/>
                    <a:ext cx="57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1616040" y="3124080"/>
          <a:ext cx="57780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6040" y="3124080"/>
                    <a:ext cx="57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7"/>
          <p:cNvGraphicFramePr/>
          <p:nvPr/>
        </p:nvGraphicFramePr>
        <p:xfrm>
          <a:off x="1676520" y="5281560"/>
          <a:ext cx="2438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281560"/>
                    <a:ext cx="2438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Pos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sition of car A relative to car B is given by the vector subtraction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3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Velocity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of change of the displacements gives the relationship for the veloc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2514600" y="3581280"/>
          <a:ext cx="3200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581280"/>
                    <a:ext cx="3200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: Relative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ll the objects with a descriptive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o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hrases such as “velocity of A relative to B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velocity variables with appropriate no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something not explicitly noted as being relative to something else, it is probably relative to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: Relative Veloc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ak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velocities and put them into an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the subscripts in an order analogous to the standard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the unknow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3,7,11,13,18,22,24,27,29,33,35,36,41,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ction L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 of day 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Not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handwritten, use an arrow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printed, will be in bold print with an arrow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dealing with just the magnitude of a vector in print, an italic letter will be used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8553600" y="2057400"/>
          <a:ext cx="3888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3600" y="2057400"/>
                    <a:ext cx="388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4648320" y="3048120"/>
          <a:ext cx="4334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048120"/>
                    <a:ext cx="433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perties of V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ality of Two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vectors a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y have the same magnitude and the sam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ement of vectors in a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vector can be moved parallel to itself without being aff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Properties of V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vectors a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y have the same magnitude but are 180° apart (opposite dir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ant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ector is the sum of a given set of v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981080" y="3657600"/>
          <a:ext cx="401508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015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5"/>
          <p:cNvGraphicFramePr/>
          <p:nvPr/>
        </p:nvGraphicFramePr>
        <p:xfrm>
          <a:off x="2057400" y="5562720"/>
          <a:ext cx="19731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562720"/>
                    <a:ext cx="1973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ng V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dding vectors, their directions must be taken into acc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must be the s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ic Meth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cale draw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ebraic Meth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conven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Adding Vectors Geometrically (Triangle or Polygon Method)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a sca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the first vector with the appropriate length and in the direction specified, with respect to a coordinat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the next vector with the appropriate length and in the direction specified, with respect to a coordinate system whose origin is the end of vector    and parallel to the coordinate system used f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2743200" y="5562720"/>
          <a:ext cx="43344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62720"/>
                    <a:ext cx="433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5"/>
          <p:cNvGraphicFramePr/>
          <p:nvPr/>
        </p:nvGraphicFramePr>
        <p:xfrm>
          <a:off x="4648320" y="5943600"/>
          <a:ext cx="4334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5943600"/>
                    <a:ext cx="433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22:34:38Z</dcterms:created>
  <dc:creator>Marilyn Akins</dc:creator>
  <dc:description/>
  <dc:language>en-US</dc:language>
  <cp:lastModifiedBy>gandella</cp:lastModifiedBy>
  <dcterms:modified xsi:type="dcterms:W3CDTF">2009-08-28T13:50:23Z</dcterms:modified>
  <cp:revision>36</cp:revision>
  <dc:subject/>
  <dc:title>Chapter 3</dc:title>
</cp:coreProperties>
</file>